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EB39-EB4E-4988-AF7A-E66E81F4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357B-493D-4E7D-8A21-B62C2230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E5C47-874B-4473-90DA-056F7852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A1089-743F-49E4-B12F-952A9B23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5B3CB-0855-4ED5-B4E0-3FD0FC5C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73C55-256F-453D-BADC-E3B2ED8E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D9EA9-1C71-4B61-AC63-ED3043B5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8EC1B-1DFA-449C-93C1-41B468D5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E8F90-7B5C-43F8-9160-AB33B6E7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4021A-9233-489E-B46A-1B69D397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99BA4-8220-4613-97D2-5E5E8043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2A3B4-98FA-4296-9808-8735D269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2DE5-1F1F-42DA-9998-9115472F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7CC78-5A2E-4831-83B5-1CFBF91F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CD62C-82BE-4A00-A5B3-B346239E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79EFD-3C66-4DE6-8A52-922C8D23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F9C7F-D954-49A9-85FF-F5289ECD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F12A8-3C81-49C6-AB4D-DF841232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C731B-9F98-4E31-8DD4-69E37C57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1D4F8-3F36-401A-927F-73B3C5E6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57A1D-890B-45A1-90BC-1E52D80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6B839-20FB-452F-A856-8E9D6CB0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3B36D-3AB7-4431-BD1F-D2CEE02F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CBCF-C3E0-4608-B607-F7582A5A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9DFA8-EB9D-4849-B6DA-7E4C0A9E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7BE2D-FBE2-4FB1-B649-D3E9435A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46F08-F23C-477F-AE73-2925A891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18BEA-CEDC-4A17-9357-DAB76430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0C9FF-D557-4D97-87FC-17C152A0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25FE5-76EE-4621-9F97-E4F41F92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DFA01-9E3E-486F-B91F-2D9240F2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5A61B-9E21-4615-97A5-320544DD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95C0A-C717-4BCF-A96B-219AB00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C4758-77DE-4617-93E5-0C04BB4F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375F-095B-4316-9FF7-0FAD8924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6731C-9E50-4BCD-8949-4D62F199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96C49-8CA2-49C1-8425-42A02E55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658B8-7230-4EB5-9D25-04012478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451411-88FD-45F5-95EC-322D30C6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6C6CD9-0769-4D8D-A941-6F232EB1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A65B40-04F2-43DC-9690-33D4198B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C88256-35BB-46FA-A828-0951D9EF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CDF262-6A04-4AFF-9717-A5C7C146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B71895-3AC9-454B-9778-F304A2A0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A5855E-66A3-47A1-AD61-93A14C65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4556-DA92-433F-9FF3-CF9FE6B7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5B1C50-5A88-4585-822A-D695D394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A59952-6F8A-47FA-AAE1-D54BB0D8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0D200C-8A10-4239-9C93-3234F4E9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28A416-E19C-4D81-B379-95465F3D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BCBE31-8DB3-4FE0-AD5D-D3D5627A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80533-D093-4572-BB98-C27E74BD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1A39B-FAE0-4B5B-BEC0-98750F29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55241-C66F-42FF-9056-F6F17454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9AC7D-2C7A-4C39-BE7A-AC1BF037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F4681-2EEB-4A48-88F7-16D949DB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5A3D-E1B0-422D-83C7-A676FB5F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0712E-DBE1-4B1B-821C-19E88902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C3E31-3412-47EF-AF7E-897AB658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26AEA-10EB-44BA-83B6-9173DF5F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59D66-CCFD-44C2-8B97-422436A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7E6AD-9F60-49B2-9001-E1E971AF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3C63D-BA7B-4B0E-815E-CC29B012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9C2E8-84EC-4B14-92B3-2689BC60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A83276-1347-4705-A973-F0991A7E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A65D8-B338-4E5D-99B8-2126FE19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283C7-6888-458A-9332-E6FA4D7A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7136-F2A2-44F2-9690-0992665F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EAC82-539F-4497-B429-8612EF94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AD3FB-0BB7-4DD8-8EDC-12B32762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5128E-CF0A-4A02-BE76-F635282D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DB7C5-91D5-4997-B625-46E4543B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5A509-5503-427F-9D1F-5460B4D7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4C255-0287-4A64-A5B2-EB1BAAA1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C0549-C493-44C5-A5DC-D77C87CB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68259-CF1D-4105-9858-0F63B666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DE32C-9AA3-4CD9-8010-9B3943BD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37B4C-56B0-45A7-B6B7-11B08984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B8D1-DE70-4C49-BCE8-122AD811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0BC07-35AF-4377-AB32-7ECB5306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1C7B2-FDA8-4E21-A207-69FC771F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00DF1-11FC-4694-9492-7E427719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CB3EF-9E81-4171-A975-977F2B45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CDDF0-66E8-4968-88E5-EE6CB222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90298-EF64-445E-A08E-968860D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63A66-C713-4F4A-B1BD-C5D55AB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67B1D-19E7-41C1-BBC1-6F30F54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062CF-ED12-45BA-8023-A7C9CBCC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40767-9F56-4325-891E-F3F59071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64EF-4628-4A64-9853-AA640331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7B456-0F3F-4928-B3D6-D04778FF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5439F-127C-4138-9227-84E2EF8A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8B506-E2B4-48AD-A0D3-C6B5666D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09D1D-AFE5-402C-A3CC-1298FF18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9A1D1C-18DB-43AC-BC70-9C198DF9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60D9A-36DC-43A0-A4D6-56C0D52B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2A779-5548-4258-98A6-360CE943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06FB10-BAF0-4BC5-86FC-5829580A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36DE04-2A7B-4CD7-8435-0434D9E1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503D8-781D-4E56-A646-2D9BFBF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4701-0E34-4ED8-BEA2-E75AF7B8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DBC2B-23D5-4ECD-B428-5283D9C3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C89B3B-C78F-4E4C-9317-6A02FFA7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AD443-D865-4ECE-9BE1-398D6D3B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1866-6F7D-4132-A1F4-52FC4E7C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D8F4-7D42-46DB-8CEB-57111CF5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E61C-270A-4889-96D3-5063BF35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79FF-1F3B-46D7-903B-9E828849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8E13-FF30-48BD-809F-F4CAF774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FED7-3A72-44BC-99E4-17206D7A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8678A-88EE-4A34-BC26-35C419B8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D64C-3F05-42EB-B7D5-AE1A2DFC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55E7-1C99-4CA7-AF38-A6736B57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7304-F95D-4D3A-9858-B4A1E98B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A914-C3C8-4754-A4A4-776D62FB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F967-BA6C-4887-874B-CE8D91EA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39BE-5AAA-410B-BBB7-2934DC47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C91F-26D9-4BC3-9667-F5C6190A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F557-C64E-4178-B9B6-1B5C0F15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24DB-6D27-4623-A8D7-DE3DE415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17BE9-CDEF-4ED9-81F8-582D628F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9E22A-1C75-495A-B4F8-6935FA82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0514-8603-4EFF-8568-814978E8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6686F-BA03-49F0-B202-C33FFAEE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57100-64F1-4EC4-84BD-67BE84DA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687BA-C2C2-435E-A572-04F325E7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CCED-CCEF-40BB-948D-9B0AD538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537E3-E83A-451E-9E42-9AFD5F84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3A0DE-48CC-4545-9155-6D56E4B2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CF4D-515D-401F-B3CE-79D8226E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805E-ED12-45E9-901D-A32A9237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5225-7FD9-4E95-B65F-CB81E0E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01A46-A30A-444A-A761-FCC2C7B6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109D-936C-43E8-A6CC-7E7A77A1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31F4-4273-47A5-BB5A-C78C82C9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95402-9033-47AD-B739-34EB74F6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7C052-2786-4C36-8085-0EF5DFBC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C890-27E3-4AF4-B7C5-5063B1C2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3E75A-2676-4BB3-98FA-EDA33F71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03EFF-A323-46B0-B451-5756914A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74E81-FF3C-46E7-A044-238021CD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AEFDB-5CB5-4506-B0D8-FD5C46E5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FC103-3ABD-434B-9CE2-CD3FD315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6FA86-F364-4854-B933-676DE3A9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1F085-2EC8-4889-8313-D865DE97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3608A-DBAA-4F7B-90E5-18032A6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E5A0B-4C92-4FF8-A7B9-FC546928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EED84-627B-4BB2-B242-32F20FFD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0115-611C-475A-8ABC-2C4A63BE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75702-F7DE-47A6-8E46-29A73711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A3F92-E592-4CBE-B5D8-8813B181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FC868-AA84-4534-8CC5-1B56317C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B55AB-43F0-41EB-8405-70519401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DE4C6-B40A-4092-BCF7-F5B0D851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197B5-A669-43B8-9F75-253D9C0E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13387-16CA-4408-944F-957F9A42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9FD3C-DAE5-4245-AE35-BC8ED91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A5234-C4C0-4DDB-88D5-C24FA973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8F9C1-216A-45A6-84A9-A0FF701E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9082-3C18-43C0-99CB-4464437F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13556-2DA4-4C02-BC17-D59125F0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7AF04-4262-4B05-AFA2-8964A681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4D9F0-EBF0-4F8B-BBDD-E12E628C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7872B-3C36-455B-85E9-8ED36910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28F25-7552-4477-A038-9C4C2BEB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58D4A-4933-4445-9CFE-4623F603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08F00-0FF0-4A97-85D0-F9191FDF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BED81-7A86-4C5A-ABEF-076F8B1C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3ACD7-B826-4FE4-8523-A90C0CF4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47208-8EDD-4B27-B696-C9BE66E2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4EC1-6812-44AA-B024-6F4F22C6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E190B-4422-420F-8DFA-436EA700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157CD-4C31-40FC-B96C-9CD2A012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629E6-C3A5-4E73-A6E4-E9E87A95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23E44-778E-4FB3-A83F-7085F9CB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9DE04-1697-4D2B-96B8-8074240A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31720-5EA0-4A20-AA7C-0261ED84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EA1D3-317A-469D-B41B-5A965E62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6B522-6E90-42D9-BA57-A790BDF0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9D813-C62B-4A53-8376-8FDD2FA9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76EC3-621C-4F08-A8CC-A1A5BC41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E5A3-681D-4988-9134-6D28E6C8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C13F3-18A9-4B05-982F-5254629E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F27D1-323F-4956-A05D-9C4CC46E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609F4-B2E8-48C6-B4F2-C8F23639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C44F1-0BA3-46D9-A5F4-7F4CFE57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79A84-151F-4285-ABD9-A999F7FD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683C1-E44D-4E9C-B30C-1A2E6D34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2F8BE-B17A-4D4D-BCF0-17BD0EF2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1E4CC-CBFA-4423-810D-3BE03757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35A2F-98B5-409E-874E-679DFEE2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4BE6C-1836-43BF-A9AC-D05795C7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0D32-E44D-4E08-B2B9-1C38CBB1D3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3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3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3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3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4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0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0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1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4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91EA-A368-492E-9ADB-C4F5A290D43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DD22-50B1-408E-B410-E692E6DF1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4F5D-6D16-4D55-B1BC-F66511274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8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9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9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9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0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0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2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3969-3B31-4A90-B942-9E2239AF09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8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28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28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28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9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0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0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2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E2EB-946F-482A-9FE5-439B0E3855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8AA5-3661-482A-82E7-D573595E5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063B-C160-46DE-9297-F2A1A0CBF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38C2-71BA-485C-A196-678F69C6BC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489A-0374-4C3C-8A47-D69D9D0B53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B67E-396B-4235-A394-60CDAC0A2E7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8F3F-4690-42D0-8267-FF75187F4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A569-5986-4DD1-8806-A9BA0C45A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76CB-34F6-4370-9470-9A477836B3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7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09EA-F2BE-49F5-B2F4-B918A02215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5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5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5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6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6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7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3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0F8E-8A82-46E1-A833-62B270CEB0D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MS900069610%5B1%5D.wav" TargetMode="External"/><Relationship Id="rId3" Type="http://schemas.microsoft.com/office/2007/relationships/media" Target="file:///tmp/home/.config/libreoffice/4/user/gallery/MS900069610%5B1%5D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LPHRG01.wav" TargetMode="External"/><Relationship Id="rId2" Type="http://schemas.microsoft.com/office/2007/relationships/media" Target="file:///tmp/home/.config/libreoffice/4/user/gallery/ELPHRG01.wav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La Mansion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or Nimish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8" name="" descr=""/>
          <p:cNvPicPr/>
          <p:nvPr/>
        </p:nvPicPr>
        <p:blipFill>
          <a:blip r:embed="rId1"/>
          <a:stretch/>
        </p:blipFill>
        <p:spPr>
          <a:xfrm>
            <a:off x="1295280" y="3127320"/>
            <a:ext cx="6172200" cy="3032280"/>
          </a:xfrm>
          <a:prstGeom prst="rect">
            <a:avLst/>
          </a:prstGeom>
          <a:ln w="0">
            <a:noFill/>
          </a:ln>
        </p:spPr>
      </p:pic>
      <p:pic>
        <p:nvPicPr>
          <p:cNvPr id="14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992" fill="hold"/>
                                        <p:tgtEl>
                                          <p:spTgt spid="1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59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Man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una mansion. Es muy estupen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2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5105520" cy="3048120"/>
          </a:xfrm>
          <a:prstGeom prst="rect">
            <a:avLst/>
          </a:prstGeom>
          <a:ln w="0">
            <a:noFill/>
          </a:ln>
        </p:spPr>
      </p:pic>
      <p:pic>
        <p:nvPicPr>
          <p:cNvPr id="146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897" fill="hold"/>
                                        <p:tgtEl>
                                          <p:spTgt spid="1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ocina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La cocina es muy be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7" name="" descr=""/>
          <p:cNvPicPr/>
          <p:nvPr/>
        </p:nvPicPr>
        <p:blipFill>
          <a:blip r:embed="rId4"/>
          <a:stretch/>
        </p:blipFill>
        <p:spPr>
          <a:xfrm>
            <a:off x="4495680" y="2101680"/>
            <a:ext cx="4419720" cy="3956400"/>
          </a:xfrm>
          <a:prstGeom prst="rect">
            <a:avLst/>
          </a:prstGeom>
          <a:ln w="0">
            <a:noFill/>
          </a:ln>
        </p:spPr>
      </p:pic>
      <p:pic>
        <p:nvPicPr>
          <p:cNvPr id="146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3629" fill="hold"/>
                                        <p:tgtEl>
                                          <p:spTgt spid="14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129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1571" fill="hold"/>
                                        <p:tgtEl>
                                          <p:spTgt spid="1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6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comedor. Es muy  grande.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1" name="" descr="Luxurious Dining Room Decorations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3733560"/>
          </a:xfrm>
          <a:prstGeom prst="rect">
            <a:avLst/>
          </a:prstGeom>
          <a:ln w="0">
            <a:noFill/>
          </a:ln>
        </p:spPr>
      </p:pic>
      <p:pic>
        <p:nvPicPr>
          <p:cNvPr id="1472" name="" descr=""/>
          <p:cNvPicPr/>
          <p:nvPr/>
        </p:nvPicPr>
        <p:blipFill>
          <a:blip r:embed="rId2"/>
          <a:stretch/>
        </p:blipFill>
        <p:spPr>
          <a:xfrm>
            <a:off x="6515280" y="3713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629" fill="hold"/>
                                        <p:tgtEl>
                                          <p:spTgt spid="1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cuarto. El cuarto es muy fabuloso.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3429000" y="3227400"/>
            <a:ext cx="4714920" cy="3392640"/>
          </a:xfrm>
          <a:prstGeom prst="rect">
            <a:avLst/>
          </a:prstGeom>
          <a:ln w="0">
            <a:noFill/>
          </a:ln>
        </p:spPr>
      </p:pic>
      <p:pic>
        <p:nvPicPr>
          <p:cNvPr id="147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43" fill="hold"/>
                                        <p:tgtEl>
                                          <p:spTgt spid="1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La sala es muy mod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9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667400" cy="3448080"/>
          </a:xfrm>
          <a:prstGeom prst="rect">
            <a:avLst/>
          </a:prstGeom>
          <a:ln w="0">
            <a:noFill/>
          </a:ln>
        </p:spPr>
      </p:pic>
      <p:pic>
        <p:nvPicPr>
          <p:cNvPr id="148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7893" fill="hold"/>
                                        <p:tgtEl>
                                          <p:spTgt spid="1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.El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antiquo y vie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2"/>
          <a:stretch/>
        </p:blipFill>
        <p:spPr>
          <a:xfrm>
            <a:off x="1219320" y="2657520"/>
            <a:ext cx="6286320" cy="4200480"/>
          </a:xfrm>
          <a:prstGeom prst="rect">
            <a:avLst/>
          </a:prstGeom>
          <a:ln w="0">
            <a:noFill/>
          </a:ln>
        </p:spPr>
      </p:pic>
      <p:pic>
        <p:nvPicPr>
          <p:cNvPr id="148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3283" fill="hold"/>
                                        <p:tgtEl>
                                          <p:spTgt spid="1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Pat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patio pequ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Tahoma"/>
              </a:rPr>
              <a:t>ñ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487" name="" descr=""/>
          <p:cNvPicPr/>
          <p:nvPr/>
        </p:nvPicPr>
        <p:blipFill>
          <a:blip r:embed="rId2"/>
          <a:stretch/>
        </p:blipFill>
        <p:spPr>
          <a:xfrm>
            <a:off x="1752480" y="2895480"/>
            <a:ext cx="5000760" cy="333396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68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68" fill="hold"/>
                                        <p:tgtEl>
                                          <p:spTgt spid="14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3554" fill="hold"/>
                                        <p:tgtEl>
                                          <p:spTgt spid="1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Jard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jardin muy bel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1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6095880" cy="4038480"/>
          </a:xfrm>
          <a:prstGeom prst="rect">
            <a:avLst/>
          </a:prstGeom>
          <a:ln w="0">
            <a:noFill/>
          </a:ln>
        </p:spPr>
      </p:pic>
      <p:pic>
        <p:nvPicPr>
          <p:cNvPr id="14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5" dur="2000" fill="hold"/>
                                        <p:tgtEl>
                                          <p:spTgt spid="1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534" fill="hold"/>
                                        <p:tgtEl>
                                          <p:spTgt spid="1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55Z</dcterms:created>
  <dc:creator>gargnim</dc:creator>
  <dc:description/>
  <dc:language>en-US</dc:language>
  <cp:lastModifiedBy>gargnim</cp:lastModifiedBy>
  <dcterms:modified xsi:type="dcterms:W3CDTF">2011-10-27T13:35:31Z</dcterms:modified>
  <cp:revision>15</cp:revision>
  <dc:subject/>
  <dc:title>La Casa Nimish</dc:title>
</cp:coreProperties>
</file>